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DB9-0D98-4BBA-9DED-B1E7FB81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FA6-0A1B-4BF9-9074-E71D847C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EFE-6465-4FE4-897E-D72F8FC1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B66-E737-4A8B-B16F-A0E951C1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5CB-3731-43BC-B6E3-83734E9F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332-2A15-41E6-AA87-C956AC2E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E2F-0296-4443-848B-B21B86E2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52E-075C-47CC-B942-1E24C482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1BD-EE22-49A3-887C-17DE98F0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D69-71FF-4B75-9451-2EFB2559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C35-D0F1-4D50-A162-B9398100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809-37B4-4E8B-8A5D-9615CC4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ACF7-0246-4243-991E-A67EC0A77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3515040" y="1219320"/>
            <a:ext cx="27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83400" y="53352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ake G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www.worldatlas.com/webimage/countrys/africa/slnewzz.gif"/>
          <p:cNvPicPr/>
          <p:nvPr/>
        </p:nvPicPr>
        <p:blipFill>
          <a:blip r:embed="rId1"/>
          <a:stretch/>
        </p:blipFill>
        <p:spPr>
          <a:xfrm>
            <a:off x="0" y="3524400"/>
            <a:ext cx="3048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dreamstime.com/sierra-leone-flag-thumb44153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t2.gstatic.com/images?q=tbn:ANd9GcSVk8T41Td4Xc1urOjq-hZvasSVj2evyhEpdIVWx8YPseMMSIz30h5iNAsL"/>
          <p:cNvPicPr/>
          <p:nvPr/>
        </p:nvPicPr>
        <p:blipFill>
          <a:blip r:embed="rId2"/>
          <a:stretch/>
        </p:blipFill>
        <p:spPr>
          <a:xfrm>
            <a:off x="5573880" y="0"/>
            <a:ext cx="3570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worldatlas.com/webimage/countrys/africa/slnewzz.gif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igooglemaps.com/gfx/maps/big/sl-map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4122720" y="190512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peacegallery.org/images/africa/sierraleone/sierra01.jpg"/>
          <p:cNvPicPr/>
          <p:nvPr/>
        </p:nvPicPr>
        <p:blipFill>
          <a:blip r:embed="rId1"/>
          <a:stretch/>
        </p:blipFill>
        <p:spPr>
          <a:xfrm>
            <a:off x="0" y="2209680"/>
            <a:ext cx="3657600" cy="2705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905120" y="57913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having a celebration or caremo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portal.unesco.org/geography/en/files/2734/11303280861SierraLeone.jpg/SierraLeone.jpg"/>
          <p:cNvPicPr/>
          <p:nvPr/>
        </p:nvPicPr>
        <p:blipFill>
          <a:blip r:embed="rId2"/>
          <a:stretch/>
        </p:blipFill>
        <p:spPr>
          <a:xfrm>
            <a:off x="6095880" y="3429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7012800" y="62485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ncing at a pa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3828240" y="190512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929520" y="990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 City - Free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74240" y="205740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of Government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231920" y="411480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Relig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1235160" y="563868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Resourc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 ,diamonds  , iron 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653080" y="121932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cy Rate – 48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4055760" y="1981080"/>
            <a:ext cx="34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237320" y="2971800"/>
            <a:ext cx="31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in w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a low literacy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i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svanikabala.files.wordpress.com/2011/07/effects-of-civil-war-in-sierra-leone1.jpg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row.wikispaces.com/file/view/child-soldier-sierra-leone.jpg/125340235/child-soldier-sierra-leone.jpg"/>
          <p:cNvPicPr/>
          <p:nvPr/>
        </p:nvPicPr>
        <p:blipFill>
          <a:blip r:embed="rId2"/>
          <a:stretch/>
        </p:blipFill>
        <p:spPr>
          <a:xfrm>
            <a:off x="0" y="4210200"/>
            <a:ext cx="3524400" cy="264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www.pri.org/thumbnail.php?file=Kamajoh_child_soldier__Sierra_Leone__367541868.jpg&amp;size=tpl4028_article_small"/>
          <p:cNvPicPr/>
          <p:nvPr/>
        </p:nvPicPr>
        <p:blipFill>
          <a:blip r:embed="rId3"/>
          <a:stretch/>
        </p:blipFill>
        <p:spPr>
          <a:xfrm>
            <a:off x="0" y="0"/>
            <a:ext cx="28576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20:28:54Z</dcterms:created>
  <dc:creator>BHISD</dc:creator>
  <dc:description/>
  <dc:language>en-US</dc:language>
  <cp:lastModifiedBy>BHISD</cp:lastModifiedBy>
  <dcterms:modified xsi:type="dcterms:W3CDTF">2012-03-07T21:36:52Z</dcterms:modified>
  <cp:revision>2</cp:revision>
  <dc:subject/>
  <dc:title>Slide 1</dc:title>
</cp:coreProperties>
</file>